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E46-131C-4819-AE91-E4829DDD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877-885D-4815-966A-B4B67DAC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0B6-31FB-431D-A590-45C1E25B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E70-BB35-4FE8-B14F-9B15A945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B47-2C23-4E20-8D77-490CE63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CB8-4918-4F08-809B-7FAF2367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D50-DC32-481F-A2A0-DDC5F02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EC4-93F2-4554-9D92-1CB5B32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83A-4FA7-4C6A-A3AA-634EB98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8BF-FBD7-4318-9052-F3160C0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04C-36B1-49E6-ACA2-B222CDC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3D2-86F1-403C-9466-FB2D7BF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C8D3-7364-4E33-A7BA-1B6F62945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revisionrequest@erco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Revision Reque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Change Reque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Proces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FFE-9CAB-445B-95E7-8A4576F803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ent P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Tim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mitting party may request that the PRR be considered on an urgent basi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ng the designated form with the requested resolution marked “Urg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justification for an Urg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r must reasonably show that an existing Protocol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iring or could imminently impair ERCOT System reliability or wholesale or retail market operations;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using or could imminently cause a discrepancy between a settlement formula and a provision of the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ing the PRR form electronically to ERCOT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visionrequest@ercot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501-135B-462D-9CA6-F9327E2B5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ent P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Tim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ail vote for urgency will be conducted among PRS standing members. The urgency vote tally will be sent to the PRS list serve after 48 hou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urgency is granted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R will be considered at the first regularly scheduled PRS meeting or at a special meeting called by the PRS chair to consider the Urgent PR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R does not receive urgent statu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R will follow a norma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4FE-ADAF-44DB-8A82-EFA67CA15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gent PR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Time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PRS recommends approval of the urgent PRR, the PRS Recommendation Report, IA and CBA (if applicable) will be considered at the next regularly scheduled TAC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AC recommends approval of the urgent PRR, the TAC Recommendation Report, IA and CBA (if applicable) will be considered at the next regularly scheduled BOD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2D6-B523-4F94-9E65-66E82F289E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gent PR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429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97188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 hours: Urgency Vote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8288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R; Conducts Email Urgency V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76120" y="487692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18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S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809880"/>
            <a:ext cx="164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4599000"/>
            <a:ext cx="97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4560" y="3885840"/>
            <a:ext cx="75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4290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66880" y="38858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38320" y="2666880"/>
            <a:ext cx="38124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9440" y="2013120"/>
            <a:ext cx="16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2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D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763120" y="3962520"/>
            <a:ext cx="759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4290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8006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1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 Review, PRS Recommendation and 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3886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581280"/>
            <a:ext cx="38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342900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3429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924320" y="2743200"/>
            <a:ext cx="3812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4800600"/>
            <a:ext cx="114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20/06 BOD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31520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2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 P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mmendation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048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429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647720"/>
            <a:ext cx="213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06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 TA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mmend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3429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4191120"/>
            <a:ext cx="121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01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 or as Otherwi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fi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y the B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D39-0B7C-47E2-B344-66B29B5A1CE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343160" cy="110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B57-E732-4D29-8634-980CEC81B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received, ERCOT Market Ru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Business Days to review and reject for incomplete SC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will work with submitter to meet requirements if in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Business Days to post for complete SC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datory 21-Calendar day comment period begins the following day after a SCR is po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21-Calendar day comment period, the SCR will be considered at the first regularly scheduled meeting of the appropriate Subcommittee unless the comment period ends less than 3 Business Days prior to the meeting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C30-84E7-402F-AA67-058CA8DB5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ubcommittee recommends approv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SCR, ERCOT wi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a Recommenda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an IA based upon the approved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C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ommendation Report, IA and CBA will be reviewed at the next regularly scheduled Subcommittee meeting. The Subcommittee will recommend a priority and rank to P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F7C-32FB-4CF2-80B3-63178CB74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ubcommittee takes other action on the SCR, a Recommendation or Action Report will be posted by ERCOT accordingly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ommendation Report, IA and CBA will be considered at the first regularly scheduled PRS meeting.  PRS will set a priority and rank for the 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ommendation Report, IA  and CBA will be considered at the next regularly scheduled TAC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AC recommends approval, ERCOT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the TAC Recommenda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1C3-CA50-4AE5-8115-3748E1856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52388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AC takes other action on the PRR, a Recommendation or Action Report will be posted accordingly by ERCOT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C Recommendation Report, IA and CBA will be considered at the BOD meeting the following month after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OD approves the SCR, ERCOT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the BOD Ac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ard takes other action on the SCR, an Action Report will be posted accordingly by ERCOT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69C-CCAF-48C0-B6A2-3579628F1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3560" y="4094280"/>
            <a:ext cx="1552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ay Com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 en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31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981080"/>
            <a:ext cx="150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 S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3320" y="4495680"/>
            <a:ext cx="127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14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809880"/>
            <a:ext cx="1646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ture D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20" y="4599000"/>
            <a:ext cx="9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5/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04560" y="3885840"/>
            <a:ext cx="75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26920" y="4343400"/>
            <a:ext cx="83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ig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amp; R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9600" y="1676520"/>
            <a:ext cx="88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8/08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 R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25146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09680" y="1855800"/>
            <a:ext cx="1255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9/2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63120" y="3962520"/>
            <a:ext cx="759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5400000">
            <a:off x="3924000" y="232272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5080" y="228600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-Day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80060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1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committee Review of IA, CBA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 Repor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mmend Pri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3962520"/>
            <a:ext cx="3808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3581280"/>
            <a:ext cx="38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396252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296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724280"/>
            <a:ext cx="99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9/19/06 BOD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69608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053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2860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6/19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240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429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3560" y="1828800"/>
            <a:ext cx="125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1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909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00800" y="3962520"/>
            <a:ext cx="763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25480" y="4267080"/>
            <a:ext cx="82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8/0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878-F135-4C6C-9112-1FE1136943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R vs. S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 or update exist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toco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a Protocol Revision Request (P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also require a change to ERCOT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quest an ERC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chan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a System Change Request (SC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nly when no change to existing Protocol language i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90E-6A79-46B4-9A6B-1ACD967E12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173664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272736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9625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9625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952880"/>
            <a:ext cx="838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X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548640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T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6095880"/>
            <a:ext cx="10670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5181480"/>
            <a:ext cx="762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2446400">
            <a:off x="4876560" y="2894760"/>
            <a:ext cx="1143000" cy="1219320"/>
          </a:xfrm>
          <a:custGeom>
            <a:avLst/>
            <a:gdLst>
              <a:gd name="textAreaLeft" fmla="*/ 202320 w 1143000"/>
              <a:gd name="textAreaRight" fmla="*/ 726480 w 11430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9903" y="21600"/>
                </a:lnTo>
                <a:arcTo wR="7650" hR="21600" stAng="5400000" swAng="-2532286"/>
                <a:lnTo>
                  <a:pt x="21076" y="7857"/>
                </a:lnTo>
                <a:lnTo>
                  <a:pt x="16426" y="0"/>
                </a:lnTo>
                <a:lnTo>
                  <a:pt x="10727" y="7857"/>
                </a:lnTo>
                <a:lnTo>
                  <a:pt x="14775" y="7857"/>
                </a:lnTo>
                <a:arcTo wR="7650" hR="21600" stAng="2867714" swAng="2351189"/>
                <a:lnTo>
                  <a:pt x="8776" y="21364"/>
                </a:lnTo>
                <a:arcTo wR="7650" hR="21600" stAng="5581097" swAng="5218903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9903" y="21600"/>
                </a:lnTo>
                <a:arcTo wR="7650" hR="21600" stAng="5400000" swAng="181097"/>
                <a:lnTo>
                  <a:pt x="8776" y="21364"/>
                </a:lnTo>
                <a:arcTo wR="7650" hR="21600" stAng="5581097" swAng="521890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 rot="10736400">
            <a:off x="6324120" y="4053240"/>
            <a:ext cx="666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P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191120" y="3276360"/>
            <a:ext cx="0" cy="70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24280" y="3276360"/>
            <a:ext cx="504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4952880"/>
            <a:ext cx="838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DT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5486400"/>
            <a:ext cx="838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M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91120" y="22860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724280" y="2286000"/>
            <a:ext cx="504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6095880"/>
            <a:ext cx="838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6248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191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2004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2004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57200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10800000">
            <a:off x="347760" y="3291480"/>
            <a:ext cx="1673280" cy="1747800"/>
          </a:xfrm>
          <a:custGeom>
            <a:avLst/>
            <a:gdLst>
              <a:gd name="textAreaLeft" fmla="*/ 81360 w 1673280"/>
              <a:gd name="textAreaRight" fmla="*/ 1591920 w 1673280"/>
              <a:gd name="textAreaTop" fmla="*/ 81360 h 1747800"/>
              <a:gd name="textAreaBottom" fmla="*/ 1666440 h 1747800"/>
            </a:gdLst>
            <a:ahLst/>
            <a:rect l="textAreaLeft" t="textAreaTop" r="textAreaRight" b="textAreaBottom"/>
            <a:pathLst>
              <a:path w="21600" h="22562">
                <a:moveTo>
                  <a:pt x="3600" y="0"/>
                </a:moveTo>
                <a:arcTo wR="3600" hR="3600" stAng="16200000" swAng="-5400000"/>
                <a:lnTo>
                  <a:pt x="0" y="18962"/>
                </a:lnTo>
                <a:arcTo wR="3600" hR="3600" stAng="10800000" swAng="-5400000"/>
                <a:lnTo>
                  <a:pt x="18000" y="22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Any system change that does not require a change to the Protocols will be submitted via S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37480" y="1808280"/>
            <a:ext cx="1606320" cy="1742040"/>
          </a:xfrm>
          <a:custGeom>
            <a:avLst/>
            <a:gdLst>
              <a:gd name="textAreaLeft" fmla="*/ 78120 w 1606320"/>
              <a:gd name="textAreaRight" fmla="*/ 1528200 w 1606320"/>
              <a:gd name="textAreaTop" fmla="*/ 78120 h 1742040"/>
              <a:gd name="textAreaBottom" fmla="*/ 1663920 h 1742040"/>
            </a:gdLst>
            <a:ahLst/>
            <a:rect l="textAreaLeft" t="textAreaTop" r="textAreaRight" b="textAreaBottom"/>
            <a:pathLst>
              <a:path w="21600" h="23425">
                <a:moveTo>
                  <a:pt x="3600" y="0"/>
                </a:moveTo>
                <a:arcTo wR="3600" hR="3600" stAng="16200000" swAng="-5400000"/>
                <a:lnTo>
                  <a:pt x="0" y="19825"/>
                </a:lnTo>
                <a:arcTo wR="3600" hR="3600" stAng="10800000" swAng="-5400000"/>
                <a:lnTo>
                  <a:pt x="18000" y="234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Changes to Protocols (which may also include proposed system changes) will be submitted via P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5290400">
            <a:off x="1782360" y="4922280"/>
            <a:ext cx="1692360" cy="838440"/>
          </a:xfrm>
          <a:custGeom>
            <a:avLst/>
            <a:gdLst>
              <a:gd name="textAreaLeft" fmla="*/ 346320 w 1692360"/>
              <a:gd name="textAreaRight" fmla="*/ 1176840 w 169236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0595" y="0"/>
                </a:lnTo>
                <a:arcTo wR="8845" hR="21600" stAng="-5400000" swAng="4140736"/>
                <a:lnTo>
                  <a:pt x="21493" y="18248"/>
                </a:lnTo>
                <a:lnTo>
                  <a:pt x="18565" y="21600"/>
                </a:lnTo>
                <a:lnTo>
                  <a:pt x="15423" y="18248"/>
                </a:lnTo>
                <a:lnTo>
                  <a:pt x="17583" y="18248"/>
                </a:lnTo>
                <a:arcTo wR="8845" hR="21600" stAng="-1259264" swAng="-4000866"/>
                <a:lnTo>
                  <a:pt x="9720" y="106"/>
                </a:lnTo>
                <a:arcTo wR="8845" hR="21600" stAng="-5539870" swAng="-5260130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139870"/>
                <a:lnTo>
                  <a:pt x="9720" y="106"/>
                </a:lnTo>
                <a:arcTo wR="8845" hR="21600" stAng="-5539870" swAng="-526013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3045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165-D800-47E3-95BA-AFE82AA244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al Process 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s &amp; S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2057400"/>
            <a:ext cx="106668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286000"/>
            <a:ext cx="1067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666880"/>
            <a:ext cx="106668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19112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committe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COPS, RM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, WM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90920" y="3276720"/>
            <a:ext cx="1523880" cy="1295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200400"/>
            <a:ext cx="274320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2004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2004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523880"/>
            <a:ext cx="127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sets priority and r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038480"/>
            <a:ext cx="172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ommends approval, rejects, defers or remands to a Sub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403848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ard of Directors approves, rejects or remands to 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495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0481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5238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views language, recommends approval, rejects, defers or remands to Subcommittee, Working Group or Task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02920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bcommittee reviews language, recommends approval, rejects, defers, or remands to Working Group or Task For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0384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bcommittee recommends priority and rank to 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A85-C56D-46B7-8EE1-0805E4A64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592280" cy="18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8F7-6D2B-4DF5-ACE1-20C60A7C5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received, ERCOT Market Rules h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Business Days to review and reject for incomplete PR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will work with submitter to meet requirements if in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Business Days to post for complete PR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datory 21-Calendar day comment period begins the following day after a PRR is po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21-Calendar day comment period, PRS will consider the PRR at its first regularly scheduled meeting unless the comment period ends less than 3 Business Days prior to the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593-A06D-44A4-807F-A3135EB998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PRS recommends approval, ERCOT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a PRS Recommenda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an Impact Analysis (IA), based upon the approved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Cost Benefit Analysis (CBA) for PRRs requiring  project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S Recommendation Report, IA and CBA (if applicable) will be reviewed at the next regularly scheduled PRS meeting. The PRS will recommend a priority and rank for a PRR that requires a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S takes other action on the PRR, a PRS Recommendation or Action Report will be posted accordingly by ERCOT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BF3-E28A-476E-A65B-A351517D4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S Recommendation Report, IA and CBA (if applicable) will be considered at the next regularly scheduled TAC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AC recommends approval, ERCOT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the TAC Recommenda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C Recommendation Report, IA and CBA (if applicable) will be considered at the BOD meeting the following month after the TAC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AC takes other action on the PRR, a TAC Recommendation or Action Report will be posted accordingly by ERCOT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F48-BCF7-4D13-9FC8-3CB4B4712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OD approves the PRR, ERCOT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the BOD Action Report within 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Board approval, ERCOT shall implement PRRs on the first day of the month following Board approval, unless otherwise provided in the Board Action Report for the approved P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upon system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ard takes other action on the PRR, an Action Report will be posted accordingly by ERCOT within 3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284-0363-4E3B-88FB-4891249CF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Approval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12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720" y="4094280"/>
            <a:ext cx="167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 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/31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981080"/>
            <a:ext cx="150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7280" y="4495680"/>
            <a:ext cx="16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/2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6120" y="4343400"/>
            <a:ext cx="114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/01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 or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i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the B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99000"/>
            <a:ext cx="105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/0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04560" y="3885840"/>
            <a:ext cx="75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95480" y="37339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6720" y="4343400"/>
            <a:ext cx="137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8/03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880" y="1752480"/>
            <a:ext cx="133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8/08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4382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2800" y="1855800"/>
            <a:ext cx="136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/2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763120" y="3962520"/>
            <a:ext cx="759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5400000">
            <a:off x="4076640" y="224676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9960" y="2084400"/>
            <a:ext cx="9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-Day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2666880"/>
            <a:ext cx="76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1148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/2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 &amp; PRS R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 at next PRS M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29200" y="3962520"/>
            <a:ext cx="3808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505320"/>
            <a:ext cx="38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9552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191120"/>
            <a:ext cx="137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/19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7696080" y="3962520"/>
            <a:ext cx="1526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22860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/2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S Rec to T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1240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0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240" y="1600200"/>
            <a:ext cx="133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/2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S R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5146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52D-10FB-49A5-8948-8DCDA09FB7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mingo</cp:lastModifiedBy>
  <cp:lastPrinted>2002-09-24T18:27:58Z</cp:lastPrinted>
  <dcterms:modified xsi:type="dcterms:W3CDTF">2006-05-02T15:14:54Z</dcterms:modified>
  <cp:revision>468</cp:revision>
  <dc:subject/>
  <dc:title>PowerPoint Presentation</dc:title>
</cp:coreProperties>
</file>